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B68C-4946-4C2C-867F-4900F8EA41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8B52-D8B8-45A5-9E1E-1EE91ACA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936E-B555-4DFF-9C3D-AE69DD3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B8BAE-4D24-4948-9931-D0C985794C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BCB6-1DDC-4C45-99F9-8696FEAC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DB5D-05EF-4F9B-AAC2-2C8BB3B9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E488-1ACB-4622-90B3-5300EBE1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6513-F6FD-4397-86B1-647FAF9F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E389-1BDB-4DA6-B3CB-5F54F350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3FDF-C62E-4ABB-BD5E-661F85E5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61DF-4FD2-4329-B6A6-A39AFC2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7AFA-C0A8-4C40-85B5-E0D0CBD1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11C2-7822-4A96-8605-05DFFB7E65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160"/>
              <a:ext cx="9115560" cy="1806480"/>
              <a:chOff x="28440" y="5051160"/>
              <a:chExt cx="9115560" cy="180648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160"/>
                <a:ext cx="9115560" cy="1806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16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000"/>
              <a:ext cx="9097920" cy="402840"/>
              <a:chOff x="0" y="468900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8280"/>
                <a:ext cx="9097920" cy="34524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200"/>
                <a:ext cx="9097920" cy="35928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2286000"/>
            <a:ext cx="671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一章  泌尿系统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癌，拟行根治性肾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对癌症和手术的恐惧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umor of bladd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泌尿系统最常见的肿瘤。好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性多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的危险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致癌物质的长期接触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胱慢性感染与异物长期刺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大量服用镇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发现全程无痛肉眼血尿伴血凝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吸烟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镜检查：膀胱三角区有一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凸出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：是膀胱癌最常见和最早出现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无明显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膀胱癌最重要的检查手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肾癌、膀胱癌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括肾癌、膀胱癌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阐述肾癌、膀胱癌的处理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泌尿系统肿瘤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和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工作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尿道膀胱肿瘤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bladder tum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B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是所有膀胱肿瘤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部分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膀胱全切术：是膀胱浸润性癌的基本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  与担心肿瘤预后不良、害怕手术、担心如厕方式改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 与长期血尿、癌肿消耗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  与膀胱全切术后尿流改道、存在造瘘口或引流装置以及不能主动排尿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感染、尿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2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膀胱癌，拟行根治性膀胱全切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壁造瘘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手术后，面对排尿方式的改变应如何做好护理工作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6760" y="12855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患者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膀胱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瘘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灌注化疗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  膀胱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位新膀胱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吸烟、肥胖、职业接触、遗传因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血尿、疼痛和肿块，被称为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以手术治疗为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护理应注意心理护理和营养支持护理；术后护理包括安置适当体位、病情观察、饮食与营养、引流管的护理、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可能与职业接触、吸烟、膀胱慢性感染、异物长期刺激、长期大量服用镇痛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典型表现为全程无痛肉眼血尿，血尿常间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以手术治疗为主，辅以化疗和放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膀胱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包括心理护理、饮食与营养、肠道准备、造瘘患者准备。术后护理包括观察病情、饮食与营养、膀胱冲洗、代膀胱冲洗、造瘘口护理、引流管的护理、并发症的观察与护理和膀胱灌注化疗的护理。另外，还要做好健康教育促进患者适应术后生活、防止癌症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肾腺癌或肾细胞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ell carcinoma, RC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占成人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发病高峰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男女之比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明显的种族差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血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8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／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8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腹壁软，无压痛、反跳痛，肠鸣音正常，无移动性浊音，余未见异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：右肾上极有一个直径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、疼痛和肿块：即肾癌三联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癌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增大，消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0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查肾肿瘤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肿瘤最可靠的影像学诊断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年龄和性别、职业、吸烟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和肥胖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家族史、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相关疾病史、</a:t>
            </a: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用药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  肾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肾切除术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肾癌最主要的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肾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8:01Z</dcterms:modified>
  <cp:revision>112</cp:revision>
  <dc:subject/>
  <dc:title>内科护理学</dc:title>
</cp:coreProperties>
</file>